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94C-8808-4BCC-9DC9-C35FE3A7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F41-51D1-4201-9F7D-520EC901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EF0-4215-45C3-BCE1-2A306D9C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DA8-CD58-423D-A2F8-809EBE89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1DDB-A6FD-4B68-B1B8-9D02E3BF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FCB0-703A-41B6-804D-2EB4694A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C534-A054-4A00-B48A-6CD03769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B2CC-A9DD-4BF3-B5DA-E8E92B7D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4D1A-FA5B-463C-A24F-C9E67918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8410-9A91-455D-A94D-928D1607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D40F-E972-45E5-B3B9-506BF558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293-3E7B-4CAC-9019-C8C3C0A0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C966-EBED-4B88-ADDB-9374443D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5C64-EE9A-41E7-9C32-D375D05A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6CD3-13C4-4A13-BFFC-693AD8F3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D08F-E5A6-410C-A309-E10E5D5A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6C00-5178-4EA3-A587-B5A08D98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F61-7303-4A87-B41D-75F1E0E7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DF9-1EF3-450F-85F3-153F1871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CC1-07E0-41C8-9458-F17439DE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9F9-B73E-47F9-9A12-117B3E64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F7E-3729-40BD-9586-EAD921F2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5CE-EBF1-48B0-B397-D55D0A59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77B-B1BB-4DB6-A30E-B722B293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6E3C-9498-45D4-9D4F-91A8C65747B6}" type="slidenum">
              <a:rPr b="0" lang="pl-P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6680" y="1252440"/>
            <a:ext cx="75960" cy="2235240"/>
          </a:xfrm>
          <a:custGeom>
            <a:avLst/>
            <a:gdLst>
              <a:gd name="textAreaLeft" fmla="*/ 11160 w 75960"/>
              <a:gd name="textAreaRight" fmla="*/ 64800 w 759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32717">
                <a:moveTo>
                  <a:pt x="10800" y="0"/>
                </a:moveTo>
                <a:arcTo wR="10800" hR="10800" stAng="16200000" swAng="-5400000"/>
                <a:lnTo>
                  <a:pt x="0" y="621917"/>
                </a:lnTo>
                <a:arcTo wR="10800" hR="10800" stAng="10800000" swAng="-5400000"/>
                <a:lnTo>
                  <a:pt x="10800" y="63271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511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74D1-AD55-4498-AF2D-0F79A8BAB2B7}" type="slidenum"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93800" y="189000"/>
            <a:ext cx="716292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Inżynieria oprogramow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Krzysztof Sach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64c"/>
                </a:solidFill>
                <a:latin typeface="Arial"/>
              </a:rPr>
              <a:t>Wprowadzeni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1952640"/>
            <a:ext cx="71294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Zakres inżynierii oprogramow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Wielki projekt programistyczny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0964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opracowanie zespołow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0964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długotrwała eksploatacj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0964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dotkliwe skutki awari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0964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słabo określone wymag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0964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złożone przetwarzanie lub wielkie zbiory danych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Metodyk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Cel inżynierii oprogramow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Główny problem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0964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złożoność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8AF-B116-46F9-A8E6-FA5052B7FA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93800" y="189000"/>
            <a:ext cx="716292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Inżynieria oprogramow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Krzysztof Sach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64c"/>
                </a:solidFill>
                <a:latin typeface="Arial"/>
              </a:rPr>
              <a:t>Scenariusz przypadku użyci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08000" y="1808280"/>
            <a:ext cx="741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 u="sng">
                <a:solidFill>
                  <a:srgbClr val="00264c"/>
                </a:solidFill>
                <a:uFillTx/>
                <a:latin typeface="Arial"/>
              </a:rPr>
              <a:t>zamówienie książki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Scenariusz główny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System prezentuje ekran wyszukiwania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Czytelnik wprowadza dane bibliograficzne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System przeszukuje katalog i wyświetla listę pozycji (tytułów)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Czytelnik przegląda listę i wybiera pozycję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System wyświetla listę książek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Czytelnik zamawia wolną książkę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System wyświetla okno logowania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Czytelnik wprowadza nazwę i hasło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System autoryzuje czytelnika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System potwierdza przyjęcie zamówienia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796-F651-48FD-9C51-A7A30DB442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678960"/>
            <a:ext cx="7116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33"/>
                </a:solidFill>
                <a:latin typeface="Arial"/>
              </a:rPr>
              <a:t>Wprowadzenie </a:t>
            </a:r>
            <a:r>
              <a:rPr b="1" lang="pl-PL" sz="3200" spc="-1" strike="noStrike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pl-PL" sz="3200" spc="-1" strike="noStrike">
                <a:solidFill>
                  <a:srgbClr val="333333"/>
                </a:solidFill>
                <a:latin typeface="Arial"/>
              </a:rPr>
              <a:t> materiał źródłow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5800" y="3392640"/>
          <a:ext cx="7772400" cy="2625480"/>
        </p:xfrm>
        <a:graphic>
          <a:graphicData uri="http://schemas.openxmlformats.org/drawingml/2006/table">
            <a:tbl>
              <a:tblPr/>
              <a:tblGrid>
                <a:gridCol w="1473120"/>
                <a:gridCol w="1405080"/>
                <a:gridCol w="1260360"/>
                <a:gridCol w="1225440"/>
                <a:gridCol w="1258920"/>
                <a:gridCol w="114948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ZUS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IACS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CAPS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Poczt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Wybory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Kont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15 000 00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2 300 00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Dokumenty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300 000 00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12 000 00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1 000 00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3 000 00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Użytkownicy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23 00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8 50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3 50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Rozproszenie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  <a:ea typeface="Times New Roman"/>
                        </a:rPr>
                        <a:t>3 00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295280" y="2081160"/>
            <a:ext cx="712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6680" y="20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205000"/>
            <a:ext cx="83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Arial Narrow"/>
              </a:rPr>
              <a:t>Systemy oceniane przez Zespół Inżynierii Oprogramowania PW w latach 2002 </a:t>
            </a:r>
            <a:r>
              <a:rPr b="0" lang="pl-PL" sz="28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pl-PL" sz="2800" spc="-1" strike="noStrike">
                <a:solidFill>
                  <a:srgbClr val="00264c"/>
                </a:solidFill>
                <a:latin typeface="Arial Narrow"/>
              </a:rPr>
              <a:t> 2004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4E9-0A72-4E11-A293-6EA21A29BD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653760"/>
            <a:ext cx="76597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33"/>
                </a:solidFill>
                <a:latin typeface="Arial"/>
              </a:rPr>
              <a:t>Decyzja rozpoczę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1640" y="206064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Arial"/>
              </a:rPr>
              <a:t>Czy można rozpocząć bez specyfikacji wymagań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4400640"/>
            <a:ext cx="81374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64c"/>
                </a:solidFill>
                <a:uFillTx/>
                <a:latin typeface="Times New Roman"/>
              </a:rPr>
              <a:t>Dylemat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albo zacząć przed specyfikacją, ryzykując nietrafienie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albo czekać na specyfikację, ryzykując przekroczenie terminu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4800" y="2846520"/>
            <a:ext cx="74682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64c"/>
                </a:solidFill>
                <a:uFillTx/>
                <a:latin typeface="Times New Roman"/>
              </a:rPr>
              <a:t>Specyfikacja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wymagań: przepisy praw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projekt, termin 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ustawa 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rozporządzenia wykonawcze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prawo, termin 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zmiana prawa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97E-5429-4616-91D6-A0CBF1D113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6BC-E80A-406E-A775-BCB0FCFF8D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645840"/>
            <a:ext cx="76597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33"/>
                </a:solidFill>
                <a:latin typeface="Arial"/>
              </a:rPr>
              <a:t>Przetar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10160" y="2060640"/>
            <a:ext cx="3384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2097000"/>
            <a:ext cx="838836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Arial"/>
              </a:rPr>
              <a:t>SIWZ </a:t>
            </a:r>
            <a:r>
              <a:rPr b="0" lang="pl-PL" sz="28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pl-PL" sz="2800" spc="-1" strike="noStrike">
                <a:solidFill>
                  <a:srgbClr val="00264c"/>
                </a:solidFill>
                <a:latin typeface="Arial"/>
              </a:rPr>
              <a:t> Oferty wykonawców (firm informatycznych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2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64c"/>
                </a:solidFill>
                <a:uFillTx/>
                <a:latin typeface="Times New Roman"/>
              </a:rPr>
              <a:t>Kryteria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rozstrzygnięcia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ocena metodyki wykonania projektu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ocena projektu koncepcyjnego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osztorys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ocena potencjału wykonawcy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5720" y="4941720"/>
            <a:ext cx="72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64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liczba, poziom kwalifikacji, wyposażenie pracowników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organizacja pracy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276-CE67-4F67-B99E-DE85D872EC70}" type="slidenum">
              <a:t>14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45840"/>
            <a:ext cx="76597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33"/>
                </a:solidFill>
                <a:latin typeface="Arial"/>
              </a:rPr>
              <a:t>Przetarg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 organizacja prac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6520" y="1989000"/>
            <a:ext cx="8280360" cy="26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Arial"/>
              </a:rPr>
              <a:t>Wstępna dekompozycja systemu i rozparcelowanie wykonania między niezależnych wykonawców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64c"/>
                </a:solidFill>
                <a:uFillTx/>
                <a:latin typeface="Times New Roman"/>
              </a:rPr>
              <a:t>Problemy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permanentne niedotrzymywanie harmonogramu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nie realizowanie wspólnych ustaleń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niepełne dokumentowanie właściwości komponentów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5760" y="4529160"/>
            <a:ext cx="808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64c"/>
                </a:solidFill>
                <a:uFillTx/>
                <a:latin typeface="Times New Roman"/>
              </a:rPr>
              <a:t>Rezultaty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spiętrzenie prac na końcu okresu realizacji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braku czasu na rzetelną weryfikację,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błędne (nie w pełni zrozumiałe) współdziałanie komponentów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E9F-D06F-4A76-98EE-FA606D00F3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4920" y="645840"/>
            <a:ext cx="76597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33"/>
                </a:solidFill>
                <a:latin typeface="Arial"/>
              </a:rPr>
              <a:t>Przetarg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 organizacja prac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8280360" cy="26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Arial"/>
              </a:rPr>
              <a:t>Wstępna dekompozycja systemu i rozparcelowanie wykonania między podwykonawców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64c"/>
                </a:solidFill>
                <a:uFillTx/>
                <a:latin typeface="Times New Roman"/>
              </a:rPr>
              <a:t>Problemy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niejednolitość narzędzi i stylu pracy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skąpy przepływ informacji między zespołami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niedostateczne udokumentowanie właściwości komponentów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6840" y="4529160"/>
            <a:ext cx="742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64c"/>
                </a:solidFill>
                <a:uFillTx/>
                <a:latin typeface="Times New Roman"/>
              </a:rPr>
              <a:t>Rezultaty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różny poziom szczegółowości dokumentacji projektowej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różny stopień użycia i opisania modeli projektowych,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różne środowiska programistyczn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DAB-421A-437F-9559-BC75C61D7A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78960"/>
            <a:ext cx="68630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33"/>
                </a:solidFill>
                <a:latin typeface="Arial"/>
              </a:rPr>
              <a:t>Metody opracowan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10160" y="2060640"/>
            <a:ext cx="3384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149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116000" y="2637000"/>
          <a:ext cx="6804000" cy="1742760"/>
        </p:xfrm>
        <a:graphic>
          <a:graphicData uri="http://schemas.openxmlformats.org/drawingml/2006/table">
            <a:tbl>
              <a:tblPr/>
              <a:tblGrid>
                <a:gridCol w="1701720"/>
                <a:gridCol w="1701720"/>
                <a:gridCol w="1702080"/>
                <a:gridCol w="169848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64c"/>
                      </a:solidFill>
                    </a:lnL>
                    <a:lnR w="9360">
                      <a:solidFill>
                        <a:srgbClr val="00264c"/>
                      </a:solidFill>
                    </a:lnR>
                    <a:lnT w="9360">
                      <a:solidFill>
                        <a:srgbClr val="00264c"/>
                      </a:solidFill>
                    </a:lnT>
                    <a:lnB w="93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</a:rPr>
                        <a:t>Strukturalne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64c"/>
                      </a:solidFill>
                    </a:lnL>
                    <a:lnR w="2880">
                      <a:solidFill>
                        <a:srgbClr val="00264c"/>
                      </a:solidFill>
                    </a:lnR>
                    <a:lnT w="9360">
                      <a:solidFill>
                        <a:srgbClr val="00264c"/>
                      </a:solidFill>
                    </a:lnT>
                    <a:lnB w="93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</a:rPr>
                        <a:t>Obiektowe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264c"/>
                      </a:solidFill>
                    </a:lnL>
                    <a:lnR w="2880">
                      <a:solidFill>
                        <a:srgbClr val="00264c"/>
                      </a:solidFill>
                    </a:lnR>
                    <a:lnT w="9360">
                      <a:solidFill>
                        <a:srgbClr val="00264c"/>
                      </a:solidFill>
                    </a:lnT>
                    <a:lnB w="93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</a:rPr>
                        <a:t>Inne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264c"/>
                      </a:solidFill>
                    </a:lnL>
                    <a:lnR w="9360">
                      <a:solidFill>
                        <a:srgbClr val="00264c"/>
                      </a:solidFill>
                    </a:lnR>
                    <a:lnT w="9360">
                      <a:solidFill>
                        <a:srgbClr val="00264c"/>
                      </a:solidFill>
                    </a:lnT>
                    <a:lnB w="93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</a:rPr>
                        <a:t>Kaskadowy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64c"/>
                      </a:solidFill>
                    </a:lnL>
                    <a:lnR w="9360">
                      <a:solidFill>
                        <a:srgbClr val="00264c"/>
                      </a:solidFill>
                    </a:lnR>
                    <a:lnT w="9360">
                      <a:solidFill>
                        <a:srgbClr val="00264c"/>
                      </a:solidFill>
                    </a:lnT>
                    <a:lnB w="28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64c"/>
                      </a:solidFill>
                    </a:lnL>
                    <a:lnR w="2880">
                      <a:solidFill>
                        <a:srgbClr val="00264c"/>
                      </a:solidFill>
                    </a:lnR>
                    <a:lnT w="9360">
                      <a:solidFill>
                        <a:srgbClr val="00264c"/>
                      </a:solidFill>
                    </a:lnT>
                    <a:lnB w="28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264c"/>
                      </a:solidFill>
                    </a:lnL>
                    <a:lnR w="2880">
                      <a:solidFill>
                        <a:srgbClr val="00264c"/>
                      </a:solidFill>
                    </a:lnR>
                    <a:lnT w="9360">
                      <a:solidFill>
                        <a:srgbClr val="00264c"/>
                      </a:solidFill>
                    </a:lnT>
                    <a:lnB w="28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264c"/>
                      </a:solidFill>
                    </a:lnL>
                    <a:lnR w="9360">
                      <a:solidFill>
                        <a:srgbClr val="00264c"/>
                      </a:solidFill>
                    </a:lnR>
                    <a:lnT w="9360">
                      <a:solidFill>
                        <a:srgbClr val="00264c"/>
                      </a:solidFill>
                    </a:lnT>
                    <a:lnB w="28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</a:rPr>
                        <a:t>Przyrostowy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64c"/>
                      </a:solidFill>
                    </a:lnL>
                    <a:lnR w="9360">
                      <a:solidFill>
                        <a:srgbClr val="00264c"/>
                      </a:solidFill>
                    </a:lnR>
                    <a:lnT w="2880">
                      <a:solidFill>
                        <a:srgbClr val="00264c"/>
                      </a:solidFill>
                    </a:lnT>
                    <a:lnB w="28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64c"/>
                      </a:solidFill>
                    </a:lnL>
                    <a:lnR w="2880">
                      <a:solidFill>
                        <a:srgbClr val="00264c"/>
                      </a:solidFill>
                    </a:lnR>
                    <a:lnT w="2880">
                      <a:solidFill>
                        <a:srgbClr val="00264c"/>
                      </a:solidFill>
                    </a:lnT>
                    <a:lnB w="28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264c"/>
                      </a:solidFill>
                    </a:lnL>
                    <a:lnR w="2880">
                      <a:solidFill>
                        <a:srgbClr val="00264c"/>
                      </a:solidFill>
                    </a:lnR>
                    <a:lnT w="2880">
                      <a:solidFill>
                        <a:srgbClr val="00264c"/>
                      </a:solidFill>
                    </a:lnT>
                    <a:lnB w="28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264c"/>
                      </a:solidFill>
                    </a:lnL>
                    <a:lnR w="9360">
                      <a:solidFill>
                        <a:srgbClr val="00264c"/>
                      </a:solidFill>
                    </a:lnR>
                    <a:lnT w="2880">
                      <a:solidFill>
                        <a:srgbClr val="00264c"/>
                      </a:solidFill>
                    </a:lnT>
                    <a:lnB w="28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</a:rPr>
                        <a:t>Żywiołowy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64c"/>
                      </a:solidFill>
                    </a:lnL>
                    <a:lnR w="9360">
                      <a:solidFill>
                        <a:srgbClr val="00264c"/>
                      </a:solidFill>
                    </a:lnR>
                    <a:lnT w="2880">
                      <a:solidFill>
                        <a:srgbClr val="00264c"/>
                      </a:solidFill>
                    </a:lnT>
                    <a:lnB w="93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64c"/>
                      </a:solidFill>
                    </a:lnL>
                    <a:lnR w="2880">
                      <a:solidFill>
                        <a:srgbClr val="00264c"/>
                      </a:solidFill>
                    </a:lnR>
                    <a:lnT w="2880">
                      <a:solidFill>
                        <a:srgbClr val="00264c"/>
                      </a:solidFill>
                    </a:lnT>
                    <a:lnB w="93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264c"/>
                      </a:solidFill>
                    </a:lnL>
                    <a:lnR w="2880">
                      <a:solidFill>
                        <a:srgbClr val="00264c"/>
                      </a:solidFill>
                    </a:lnR>
                    <a:lnT w="2880">
                      <a:solidFill>
                        <a:srgbClr val="00264c"/>
                      </a:solidFill>
                    </a:lnT>
                    <a:lnB w="93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264c"/>
                      </a:solidFill>
                    </a:lnL>
                    <a:lnR w="9360">
                      <a:solidFill>
                        <a:srgbClr val="00264c"/>
                      </a:solidFill>
                    </a:lnR>
                    <a:lnT w="2880">
                      <a:solidFill>
                        <a:srgbClr val="00264c"/>
                      </a:solidFill>
                    </a:lnT>
                    <a:lnB w="936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576360" y="1916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Arial"/>
              </a:rPr>
              <a:t>Wykorzystane procesy i metody projektow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3640" y="4473720"/>
            <a:ext cx="73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Brak wyraźnej przewagi metod jednej grupy nad drugą 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ale obie lepsze od opracowania żywiołowego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3640" y="5343480"/>
            <a:ext cx="58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751"/>
              </a:spcBef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W przemyśle dominuje proces kaskadowy 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tu działał znacznie lepiej niż przyrostowy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4A8-6A24-4027-882A-7CF7DDF98D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4920" y="657360"/>
            <a:ext cx="68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33"/>
                </a:solidFill>
                <a:latin typeface="Arial"/>
              </a:rPr>
              <a:t>Metody </a:t>
            </a:r>
            <a:r>
              <a:rPr b="1" lang="pl-PL" sz="3200" spc="-1" strike="noStrike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pl-PL" sz="3200" spc="-1" strike="noStrike">
                <a:solidFill>
                  <a:srgbClr val="333333"/>
                </a:solidFill>
                <a:latin typeface="Arial"/>
              </a:rPr>
              <a:t> proces przyrostowy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96120" y="44593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5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400" y="1895400"/>
            <a:ext cx="912924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Arial"/>
              </a:rPr>
              <a:t>RUP 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264c"/>
                </a:solidFill>
                <a:latin typeface="Arial"/>
              </a:rPr>
              <a:t> zgodny z opisem M. Fowler, K. Scott „UML w kropelce”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spcBef>
                <a:spcPts val="751"/>
              </a:spcBef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iteracje są narzędziem kontroli postępów projektu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iteracje sterowane przypadkami użycia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duże modyfikacje istniejącego kodu w każdej iteracji (do 30%)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66240" y="3681360"/>
            <a:ext cx="925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64c"/>
                </a:solidFill>
                <a:uFillTx/>
                <a:latin typeface="Times New Roman"/>
              </a:rPr>
              <a:t>Problemy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naruszenie reguł modularyzacji 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ciągłe zmiany </a:t>
            </a:r>
            <a:r>
              <a:rPr b="0" i="1" lang="pl-PL" sz="2400" spc="-1" strike="noStrike">
                <a:solidFill>
                  <a:srgbClr val="00264c"/>
                </a:solidFill>
                <a:latin typeface="Times New Roman"/>
              </a:rPr>
              <a:t>gotowych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części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brak naturalnego ujęcia części wspólnych 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j.w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onieczność re-testowania (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2 tygodnie/przyrost)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brak testowania regresyjnego, częściowa weryfikacji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problem kontroli wersji, </a:t>
            </a:r>
            <a:r>
              <a:rPr b="0" i="1" lang="pl-PL" sz="2400" spc="-1" strike="noStrike">
                <a:solidFill>
                  <a:srgbClr val="00264c"/>
                </a:solidFill>
                <a:latin typeface="Times New Roman"/>
              </a:rPr>
              <a:t>odżywanie błędów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18D-EC81-4A9E-8402-ACEDF38168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00320" y="678960"/>
            <a:ext cx="683568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33"/>
                </a:solidFill>
                <a:latin typeface="Arial"/>
              </a:rPr>
              <a:t>Analiza i specyfikacja wymagań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7720" y="29782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06800" y="30542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40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99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9160" y="2133720"/>
            <a:ext cx="86479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64c"/>
                </a:solidFill>
                <a:uFillTx/>
                <a:latin typeface="Times New Roman"/>
              </a:rPr>
              <a:t>Podejście strukturaln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Arial"/>
              </a:rPr>
              <a:t>schemat kontekstu, obszary krytyczne 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264c"/>
                </a:solidFill>
                <a:latin typeface="Arial"/>
              </a:rPr>
              <a:t> hierarchia funkcji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dekompozycja funkcjonalna systemu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dobre osadzenie projektu w wynikach analizy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4200" y="4140360"/>
            <a:ext cx="793008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64c"/>
                </a:solidFill>
                <a:uFillTx/>
                <a:latin typeface="Times New Roman"/>
              </a:rPr>
              <a:t>Podejście obiektow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Arial"/>
              </a:rPr>
              <a:t>model przypadków użycia 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264c"/>
                </a:solidFill>
                <a:latin typeface="Arial"/>
              </a:rPr>
              <a:t> lista funkcji użytkownika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duża precyzja opisu zewnętrznego zachowania systemu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naturalne przejście do definicji scenariuszy testowych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6FB-8165-43FA-BC47-1CAA476D60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93800" y="189000"/>
            <a:ext cx="716292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Inżynieria oprogramow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Krzysztof Sach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64c"/>
                </a:solidFill>
                <a:latin typeface="Arial"/>
              </a:rPr>
              <a:t>Procesy i metody projektow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97000"/>
            <a:ext cx="7489800" cy="28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Proces projektowy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Metody strukturalne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640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metody dojrzał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640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dekompozycja funkcjonaln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640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modele grafu przepływu danych i diagramów encj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Metody obiektow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640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brak dojrzałych metod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640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modele i notacja UML(</a:t>
            </a:r>
            <a:r>
              <a:rPr b="0" i="1" lang="en-US" sz="2000" spc="-1" strike="noStrike">
                <a:solidFill>
                  <a:srgbClr val="00264c"/>
                </a:solidFill>
                <a:latin typeface="Arial"/>
              </a:rPr>
              <a:t>Unified Modeling Language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A9F-03FA-4897-9281-9C11338DE7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357720" y="29782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06800" y="30542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51280" y="411336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00320" y="678960"/>
            <a:ext cx="72324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33"/>
                </a:solidFill>
                <a:latin typeface="Times New Roman"/>
              </a:rPr>
              <a:t>Wymagania niefunkcjonal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84160" y="21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7320" y="2097000"/>
            <a:ext cx="83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Arial"/>
              </a:rPr>
              <a:t>Cecha systemu </a:t>
            </a:r>
            <a:r>
              <a:rPr b="0" lang="pl-PL" sz="28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pl-PL" sz="2800" spc="-1" strike="noStrike">
                <a:solidFill>
                  <a:srgbClr val="00264c"/>
                </a:solidFill>
                <a:latin typeface="Arial"/>
              </a:rPr>
              <a:t> niezależne od metody projektowej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080" y="2852640"/>
            <a:ext cx="844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Niezawodność (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dependability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) i dostępność (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availability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dobrze określone (czas niesprawności, czas pracy lokalnej)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5560" y="3860640"/>
            <a:ext cx="629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Bezpieczeństwo dostępu do aplikacji (</a:t>
            </a:r>
            <a:r>
              <a:rPr b="0" i="1" lang="pl-PL" sz="2400" spc="-1" strike="noStrike">
                <a:solidFill>
                  <a:srgbClr val="00264c"/>
                </a:solidFill>
                <a:latin typeface="Times New Roman"/>
              </a:rPr>
              <a:t>security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określone jakościowo, ale obszerni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6240" y="4834080"/>
            <a:ext cx="87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Wydajność systemu/aplikacji (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efficiency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brak wymagań (czasem oszacowania np. liczby dokumentów)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757-D2FD-48FC-83EF-3F199AF124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9960" y="678960"/>
            <a:ext cx="715932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33"/>
                </a:solidFill>
                <a:latin typeface="Arial"/>
              </a:rPr>
              <a:t>Testowanie akceptacyj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52760" y="47116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71880" y="34480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4200" y="2133720"/>
            <a:ext cx="849060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64c"/>
                </a:solidFill>
                <a:uFillTx/>
                <a:latin typeface="Times New Roman"/>
              </a:rPr>
              <a:t>Testy funkcjonaln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Arial"/>
              </a:rPr>
              <a:t>Poprawna analiza 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264c"/>
                </a:solidFill>
                <a:latin typeface="Arial"/>
              </a:rPr>
              <a:t> poprawny plan testów. Mankamenty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niskie pokrycie przebiegów funkcji przypadkami testowymi 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brak udokumentowania początkowego stanu systemu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buClr>
                <a:srgbClr val="002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braku dokładnego określenia wyniku testu 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8800" y="4422600"/>
            <a:ext cx="4784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64c"/>
                </a:solidFill>
                <a:uFillTx/>
                <a:latin typeface="Times New Roman"/>
              </a:rPr>
              <a:t>Testy niefunkcjonaln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Arial"/>
              </a:rPr>
              <a:t>Brak wymagań </a:t>
            </a:r>
            <a:r>
              <a:rPr b="0" lang="pl-P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264c"/>
                </a:solidFill>
                <a:latin typeface="Arial"/>
              </a:rPr>
              <a:t> brak testów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484-7C21-44AF-B4A3-971D504492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5280" y="653760"/>
            <a:ext cx="70027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33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9520" y="2023920"/>
            <a:ext cx="85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Arial Narrow"/>
              </a:rPr>
              <a:t>Podstawowe zalecenia inżynierii oprogramowania są stosowane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6200" y="2637000"/>
            <a:ext cx="840528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3048120"/>
                <a:tab algn="l" pos="4754520"/>
                <a:tab algn="l" pos="574056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64c"/>
                </a:solidFill>
                <a:uFillTx/>
                <a:latin typeface="Arial Narrow"/>
              </a:rPr>
              <a:t>Statystyki</a:t>
            </a:r>
            <a:r>
              <a:rPr b="0" lang="pl-PL" sz="2800" spc="-1" strike="noStrike">
                <a:solidFill>
                  <a:srgbClr val="00264c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4754520"/>
                <a:tab algn="l" pos="574056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proces projektowy: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askadowy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– 3,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przyrostowy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– 1,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4754520"/>
                <a:tab algn="l" pos="574056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metodologia: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strukturalna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– 2,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obiektowa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– 2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4754520"/>
                <a:tab algn="l" pos="574056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narzędzia CASE: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używane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– 4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Aft>
                <a:spcPts val="451"/>
              </a:spcAft>
              <a:tabLst>
                <a:tab algn="l" pos="0"/>
                <a:tab algn="l" pos="3048120"/>
                <a:tab algn="l" pos="4754520"/>
                <a:tab algn="l" pos="574056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testy funkcjonalne: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poprawne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– 3,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niskie pokrycie – 1,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4754520"/>
                <a:tab algn="l" pos="574056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testy wydajnościowe: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brak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– 4,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4754520"/>
                <a:tab algn="l" pos="574056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testy niezawodności: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brak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– 4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Aft>
                <a:spcPts val="451"/>
              </a:spcAft>
              <a:tabLst>
                <a:tab algn="l" pos="0"/>
                <a:tab algn="l" pos="3048120"/>
                <a:tab algn="l" pos="4754520"/>
                <a:tab algn="l" pos="574056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testy bezpieczeństwa: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niesystematyczne – 4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4754520"/>
                <a:tab algn="l" pos="574056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baza danych: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centralna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– 5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8B9-3F68-4824-A6D4-7C719EB91C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93800" y="189000"/>
            <a:ext cx="7162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Inżynieria oprogramow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Krzysztof Sach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64c"/>
                </a:solidFill>
                <a:latin typeface="Arial"/>
              </a:rPr>
              <a:t>Stan bieżący</a:t>
            </a:r>
            <a:r>
              <a:rPr b="0" lang="pl-PL" sz="28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i="1" lang="pl-PL" sz="2000" spc="-1" strike="noStrike">
                <a:solidFill>
                  <a:srgbClr val="00264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264c"/>
                </a:solidFill>
                <a:latin typeface="Arial Narrow"/>
              </a:rPr>
              <a:t>American Programmer</a:t>
            </a:r>
            <a:r>
              <a:rPr b="0" i="1" lang="pl-PL" sz="2000" spc="-1" strike="noStrike">
                <a:solidFill>
                  <a:srgbClr val="00264c"/>
                </a:solidFill>
                <a:latin typeface="Arial Narrow"/>
              </a:rPr>
              <a:t>, 1996r</a:t>
            </a:r>
            <a:r>
              <a:rPr b="0" i="1" lang="pl-PL" sz="2000" spc="-1" strike="noStrike">
                <a:solidFill>
                  <a:srgbClr val="00264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08000" y="1952640"/>
            <a:ext cx="7704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Projekty zakończone w ramach terminu i budżetu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— 35%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Przekroczenie budżetu lub czasu o ponad 20%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— 20%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Projekty przerwane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— 45%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DA9-213C-4BB1-A309-4E9D798CDC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93800" y="189000"/>
            <a:ext cx="716292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Inżynieria oprogramow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Krzysztof Sach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64c"/>
                </a:solidFill>
                <a:latin typeface="Arial"/>
              </a:rPr>
              <a:t>Treść wykładu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4920" y="2349360"/>
            <a:ext cx="777744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indent="-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Metody obiektowe (50% wykładu + laboratorium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Metody strukturalne (20%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Organizacja i zarządzanie projektem (30%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4920" y="4149720"/>
            <a:ext cx="777744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indent="-45720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Arial"/>
              </a:rPr>
              <a:t>Literatura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Jaszkiewicz A.: Inżynieria oprogramowania, Helion, Gliwice 1997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Fowler M., Scot K.: UML w kropelce; LTP 2002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CAA-8A2B-452B-A4D6-3E5CD290DF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93800" y="189000"/>
            <a:ext cx="716292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Inżynieria oprogramow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Krzysztof Sach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64c"/>
                </a:solidFill>
                <a:latin typeface="Arial"/>
              </a:rPr>
              <a:t>Narzędzia wspomagając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5840" y="1952640"/>
            <a:ext cx="690264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Wspomaganie analizy i projektowania (</a:t>
            </a:r>
            <a:r>
              <a:rPr b="0" i="1" lang="en-US" sz="2000" spc="-1" strike="noStrike">
                <a:solidFill>
                  <a:srgbClr val="00264c"/>
                </a:solidFill>
                <a:latin typeface="Arial"/>
              </a:rPr>
              <a:t>upper CASE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316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edycja model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316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produkowanie dokumentacj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316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generowanie szkieletów programów i definicji tab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Środowiska programistyczne (</a:t>
            </a:r>
            <a:r>
              <a:rPr b="0" i="1" lang="en-US" sz="2000" spc="-1" strike="noStrike">
                <a:solidFill>
                  <a:srgbClr val="00264c"/>
                </a:solidFill>
                <a:latin typeface="Arial"/>
              </a:rPr>
              <a:t>lower CASE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316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edycja programu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316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kompilacja, konsolidacja, uruchamiani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316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produkowanie dokumentacj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Środowiska wspomagające testowanie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316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generacja danych testowych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316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rejestracja wyników testó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80316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wprowadzanie modyfikacji do programó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DCE-81DB-4427-835B-CA16A27DE1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93800" y="189000"/>
            <a:ext cx="716292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Inżynieria oprogramow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Krzysztof Sach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64c"/>
                </a:solidFill>
                <a:latin typeface="Arial"/>
              </a:rPr>
              <a:t>Metody obiektow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349360"/>
            <a:ext cx="6902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Dekompozycja świata na obiekty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Obiekt zawiera dane i dział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Zachowanie systemu wynika z interakcji obiektó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Obiekty są klasyfikowane hierarchiczni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59A-B89C-41AD-9C30-02EE9ECCDF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93800" y="189000"/>
            <a:ext cx="71629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Inżynieria oprogramow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Krzysztof Sach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64c"/>
                </a:solidFill>
                <a:latin typeface="Arial"/>
              </a:rPr>
              <a:t>Proces RUP (</a:t>
            </a:r>
            <a:r>
              <a:rPr b="1" i="1" lang="en-US" sz="2800" spc="-1" strike="noStrike">
                <a:solidFill>
                  <a:srgbClr val="00264c"/>
                </a:solidFill>
                <a:latin typeface="Arial"/>
              </a:rPr>
              <a:t>Rational Unified Process</a:t>
            </a:r>
            <a:r>
              <a:rPr b="1" lang="pl-PL" sz="2800" spc="-1" strike="noStrike">
                <a:solidFill>
                  <a:srgbClr val="00264c"/>
                </a:solidFill>
                <a:latin typeface="Arial"/>
              </a:rPr>
              <a:t>)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411200" y="2090880"/>
            <a:ext cx="6727680" cy="3967200"/>
            <a:chOff x="1411200" y="2090880"/>
            <a:chExt cx="6727680" cy="3967200"/>
          </a:xfrm>
        </p:grpSpPr>
        <p:sp>
          <p:nvSpPr>
            <p:cNvPr id="106" name=""/>
            <p:cNvSpPr/>
            <p:nvPr/>
          </p:nvSpPr>
          <p:spPr>
            <a:xfrm flipH="1">
              <a:off x="1411200" y="4832640"/>
              <a:ext cx="898560" cy="0"/>
            </a:xfrm>
            <a:prstGeom prst="line">
              <a:avLst/>
            </a:prstGeom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11200" y="3432600"/>
              <a:ext cx="0" cy="1400040"/>
            </a:xfrm>
            <a:prstGeom prst="line">
              <a:avLst/>
            </a:prstGeom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10840" y="3252960"/>
              <a:ext cx="1746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3800" y="3264120"/>
              <a:ext cx="2181600" cy="13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264c"/>
                  </a:solidFill>
                  <a:latin typeface="Arial"/>
                </a:rPr>
                <a:t>Konstrukcja programu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lvl="1" marL="271440">
                <a:lnSpc>
                  <a:spcPct val="100000"/>
                </a:lnSpc>
                <a:buClr>
                  <a:srgbClr val="00264c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264c"/>
                  </a:solidFill>
                  <a:latin typeface="Arial"/>
                </a:rPr>
                <a:t> </a:t>
              </a:r>
              <a:r>
                <a:rPr b="0" lang="pl-PL" sz="1600" spc="-1" strike="noStrike">
                  <a:solidFill>
                    <a:srgbClr val="00264c"/>
                  </a:solidFill>
                  <a:latin typeface="Arial"/>
                </a:rPr>
                <a:t>analiza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lvl="1" marL="271440">
                <a:lnSpc>
                  <a:spcPct val="100000"/>
                </a:lnSpc>
                <a:buClr>
                  <a:srgbClr val="00264c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264c"/>
                  </a:solidFill>
                  <a:latin typeface="Arial"/>
                </a:rPr>
                <a:t> </a:t>
              </a:r>
              <a:r>
                <a:rPr b="0" lang="pl-PL" sz="1600" spc="-1" strike="noStrike">
                  <a:solidFill>
                    <a:srgbClr val="00264c"/>
                  </a:solidFill>
                  <a:latin typeface="Arial"/>
                </a:rPr>
                <a:t>projekt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lvl="1" marL="271440">
                <a:lnSpc>
                  <a:spcPct val="100000"/>
                </a:lnSpc>
                <a:buClr>
                  <a:srgbClr val="00264c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264c"/>
                  </a:solidFill>
                  <a:latin typeface="Arial"/>
                </a:rPr>
                <a:t> </a:t>
              </a:r>
              <a:r>
                <a:rPr b="0" lang="pl-PL" sz="1600" spc="-1" strike="noStrike">
                  <a:solidFill>
                    <a:srgbClr val="00264c"/>
                  </a:solidFill>
                  <a:latin typeface="Arial"/>
                </a:rPr>
                <a:t>implementacja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lvl="1" marL="271440">
                <a:lnSpc>
                  <a:spcPct val="100000"/>
                </a:lnSpc>
                <a:buClr>
                  <a:srgbClr val="00264c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264c"/>
                  </a:solidFill>
                  <a:latin typeface="Arial"/>
                </a:rPr>
                <a:t> </a:t>
              </a:r>
              <a:r>
                <a:rPr b="0" lang="pl-PL" sz="1600" spc="-1" strike="noStrike">
                  <a:solidFill>
                    <a:srgbClr val="00264c"/>
                  </a:solidFill>
                  <a:latin typeface="Arial"/>
                </a:rPr>
                <a:t>integracja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11200" y="3432600"/>
              <a:ext cx="5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3800" y="2662560"/>
              <a:ext cx="2181600" cy="36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264c"/>
                  </a:solidFill>
                  <a:latin typeface="Arial"/>
                </a:rPr>
                <a:t>Rozwinięcie projektu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51640" y="54741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2000" y="2090880"/>
              <a:ext cx="218340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264c"/>
                  </a:solidFill>
                  <a:latin typeface="Arial"/>
                </a:rPr>
                <a:t>Inicjacja projektu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81600" y="244044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34760" y="2265480"/>
              <a:ext cx="230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90680" y="2090880"/>
              <a:ext cx="1027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264c"/>
                  </a:solidFill>
                  <a:latin typeface="Arial"/>
                </a:rPr>
                <a:t>Inception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34760" y="2907000"/>
              <a:ext cx="2314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90680" y="2732400"/>
              <a:ext cx="1155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264c"/>
                  </a:solidFill>
                  <a:latin typeface="Arial"/>
                </a:rPr>
                <a:t>Elaboration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90680" y="3258000"/>
              <a:ext cx="134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264c"/>
                  </a:solidFill>
                  <a:latin typeface="Arial"/>
                </a:rPr>
                <a:t>Construction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52880" y="5007240"/>
              <a:ext cx="11556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264c"/>
                  </a:solidFill>
                  <a:latin typeface="Arial"/>
                </a:rPr>
                <a:t>Transition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11280" y="5708880"/>
              <a:ext cx="28090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264c"/>
                  </a:solidFill>
                  <a:latin typeface="Arial"/>
                </a:rPr>
                <a:t>Eksploatacja i konserwacja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34760" y="3432600"/>
              <a:ext cx="2314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09760" y="459936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1640" y="4599360"/>
              <a:ext cx="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59400" y="4950000"/>
              <a:ext cx="2183040" cy="52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264c"/>
                  </a:solidFill>
                  <a:latin typeface="Arial"/>
                </a:rPr>
                <a:t>Testy </a:t>
              </a:r>
              <a:r>
                <a:rPr b="0" sz="1600" spc="-1" strike="noStrike">
                  <a:solidFill>
                    <a:srgbClr val="00264c"/>
                  </a:solidFill>
                  <a:latin typeface="Arial"/>
                </a:rPr>
                <a:t>akceptacyjne i wdrożenie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71320" y="5183640"/>
              <a:ext cx="156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81600" y="3024360"/>
              <a:ext cx="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012-2A39-44C7-B2E3-300A7B4D2B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93800" y="189000"/>
            <a:ext cx="71629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Inżynieria oprogramow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Krzysztof Sach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64c"/>
                </a:solidFill>
                <a:latin typeface="Arial"/>
              </a:rPr>
              <a:t>Modele obiektowe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89680" y="2235240"/>
            <a:ext cx="360864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Model przypadków użyc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Diagramy aktywnośc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Diagramy kla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Diagramy stanu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Diagramy współdział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Diagramy implementacyjn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453-47EF-4ECE-983C-CFB4A13290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93800" y="189000"/>
            <a:ext cx="716292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Inżynieria oprogramowan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CommercialScript BT"/>
              </a:rPr>
              <a:t>Krzysztof Sach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64c"/>
                </a:solidFill>
                <a:latin typeface="Arial"/>
              </a:rPr>
              <a:t>Metoda przypadków użycia (</a:t>
            </a:r>
            <a:r>
              <a:rPr b="1" i="1" lang="en-US" sz="2800" spc="-1" strike="noStrike">
                <a:solidFill>
                  <a:srgbClr val="00264c"/>
                </a:solidFill>
                <a:latin typeface="Arial"/>
              </a:rPr>
              <a:t>use case</a:t>
            </a:r>
            <a:r>
              <a:rPr b="1" lang="pl-PL" sz="2800" spc="-1" strike="noStrike">
                <a:solidFill>
                  <a:srgbClr val="00264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1808280"/>
            <a:ext cx="4437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Elementy modelu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0316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akto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0316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przypadek użyc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03160">
              <a:lnSpc>
                <a:spcPct val="100000"/>
              </a:lnSpc>
              <a:buClr>
                <a:srgbClr val="00264c"/>
              </a:buClr>
              <a:buFont typeface="Symbol" charset="2"/>
              <a:buChar char="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relacj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Reprezentacja graficzn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264c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264c"/>
                </a:solidFill>
                <a:latin typeface="Arial"/>
              </a:rPr>
              <a:t>Wstępna dekompozycja dziedziny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24000" y="3730680"/>
            <a:ext cx="6337440" cy="1858680"/>
            <a:chOff x="1224000" y="3730680"/>
            <a:chExt cx="6337440" cy="1858680"/>
          </a:xfrm>
        </p:grpSpPr>
        <p:sp>
          <p:nvSpPr>
            <p:cNvPr id="133" name=""/>
            <p:cNvSpPr/>
            <p:nvPr/>
          </p:nvSpPr>
          <p:spPr>
            <a:xfrm>
              <a:off x="1578240" y="3933000"/>
              <a:ext cx="202320" cy="202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79760" y="4135320"/>
              <a:ext cx="0" cy="20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78240" y="4237200"/>
              <a:ext cx="20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578240" y="4338000"/>
              <a:ext cx="101520" cy="20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9760" y="4338000"/>
              <a:ext cx="100800" cy="20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24000" y="4591080"/>
              <a:ext cx="9115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264c"/>
                  </a:solidFill>
                  <a:latin typeface="Times New Roman"/>
                </a:rPr>
                <a:t>czytelnik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82080" y="3730680"/>
              <a:ext cx="1569240" cy="55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54440" y="3802680"/>
              <a:ext cx="141768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264c"/>
                  </a:solidFill>
                  <a:latin typeface="Times New Roman"/>
                </a:rPr>
                <a:t>zamówienie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264c"/>
                  </a:solidFill>
                  <a:latin typeface="Times New Roman"/>
                </a:rPr>
                <a:t>książki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144680" y="4363920"/>
              <a:ext cx="1569960" cy="574200"/>
              <a:chOff x="4144680" y="4363920"/>
              <a:chExt cx="1569960" cy="574200"/>
            </a:xfrm>
          </p:grpSpPr>
          <p:sp>
            <p:nvSpPr>
              <p:cNvPr id="142" name=""/>
              <p:cNvSpPr/>
              <p:nvPr/>
            </p:nvSpPr>
            <p:spPr>
              <a:xfrm>
                <a:off x="4144680" y="4363920"/>
                <a:ext cx="1569960" cy="574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195440" y="4425480"/>
                <a:ext cx="1418040" cy="47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600" spc="-1" strike="noStrike">
                    <a:solidFill>
                      <a:srgbClr val="00264c"/>
                    </a:solidFill>
                    <a:latin typeface="Times New Roman"/>
                  </a:rPr>
                  <a:t>wypożyczenie</a:t>
                </a:r>
                <a:endParaRPr b="0" lang="en-US" sz="1600" spc="-1" strike="noStrike">
                  <a:solidFill>
                    <a:srgbClr val="00264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600" spc="-1" strike="noStrike">
                    <a:solidFill>
                      <a:srgbClr val="00264c"/>
                    </a:solidFill>
                    <a:latin typeface="Times New Roman"/>
                  </a:rPr>
                  <a:t>książki</a:t>
                </a:r>
                <a:endParaRPr b="0" lang="en-US" sz="16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901920" y="4635000"/>
              <a:ext cx="202320" cy="202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03800" y="4837320"/>
              <a:ext cx="0" cy="20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01920" y="4939200"/>
              <a:ext cx="20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901920" y="5040000"/>
              <a:ext cx="101520" cy="20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03800" y="5040000"/>
              <a:ext cx="100800" cy="20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75320" y="5286240"/>
              <a:ext cx="108612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264c"/>
                  </a:solidFill>
                  <a:latin typeface="Times New Roman"/>
                </a:rPr>
                <a:t>bibliotekarz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5400" y="4345560"/>
              <a:ext cx="217224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985400" y="4020120"/>
              <a:ext cx="79632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155840" y="5032800"/>
              <a:ext cx="1569960" cy="556560"/>
              <a:chOff x="4155840" y="5032800"/>
              <a:chExt cx="1569960" cy="556560"/>
            </a:xfrm>
          </p:grpSpPr>
          <p:sp>
            <p:nvSpPr>
              <p:cNvPr id="153" name=""/>
              <p:cNvSpPr/>
              <p:nvPr/>
            </p:nvSpPr>
            <p:spPr>
              <a:xfrm>
                <a:off x="4155840" y="5032800"/>
                <a:ext cx="1569960" cy="55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06600" y="5076360"/>
                <a:ext cx="141804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600" spc="-1" strike="noStrike">
                    <a:solidFill>
                      <a:srgbClr val="00264c"/>
                    </a:solidFill>
                    <a:latin typeface="Times New Roman"/>
                  </a:rPr>
                  <a:t>zwrócenie</a:t>
                </a:r>
                <a:endParaRPr b="0" lang="en-US" sz="1600" spc="-1" strike="noStrike">
                  <a:solidFill>
                    <a:srgbClr val="00264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600" spc="-1" strike="noStrike">
                    <a:solidFill>
                      <a:srgbClr val="00264c"/>
                    </a:solidFill>
                    <a:latin typeface="Times New Roman"/>
                  </a:rPr>
                  <a:t>książki</a:t>
                </a:r>
                <a:endParaRPr b="0" lang="en-US" sz="16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5715000" y="4635000"/>
              <a:ext cx="9410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715000" y="5032800"/>
              <a:ext cx="94104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5400" y="4490280"/>
              <a:ext cx="2172240" cy="79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9FB-AA78-4B5D-B584-33C8099279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3:51:50Z</dcterms:created>
  <dc:creator>Krzysztof Sacha</dc:creator>
  <dc:description/>
  <dc:language>en-US</dc:language>
  <cp:lastModifiedBy>Krzysztof Sacha</cp:lastModifiedBy>
  <dcterms:modified xsi:type="dcterms:W3CDTF">2005-02-22T16:49:30Z</dcterms:modified>
  <cp:revision>79</cp:revision>
  <dc:subject/>
  <dc:title>A Simple Method for Plc Programming  Krzysztof Sacha Warsaw University of Technology</dc:title>
</cp:coreProperties>
</file>